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B01D-CC06-4607-84F4-2D520FC12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843C-789E-452E-91FF-E46293BFF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966B-3C9A-4F43-8DFD-134D73ACE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0D43-4B6E-47D2-A412-09A93AA1C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D6E3D-DE5F-4FA0-8E51-922678F7F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0940-0DC9-4694-80A3-430F76ED6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49C1-08C8-41B9-BD1B-175ADDF70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BC56-0AB3-4BF7-835F-DA4A6F4F0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FAC-3C11-4A81-8B7F-0AF221080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45E-E2BB-4FD7-B563-DFC833441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4AEC-FADC-4F59-B317-07BFC3D91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181B-3D8D-4F12-BA99-514553BB8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D6D-D4AB-4576-A203-C82909CBAA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1613-0C3E-4A2D-8846-437C9BA869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467-29DA-43CE-ACBE-733886D17E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657F-2C67-467A-86BE-008C8DC670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6D7-CA18-4838-8694-EE373727A5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person picks a different value fo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etween 0 and 5 (could pick f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plot the value of the following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C6C-4417-41C6-9D67-A5375F9BC7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911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DEBF-69F3-48B5-8B13-9247044DE7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89548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 1  (2x/3 vs. 2x/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 2  (Variable number lines /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1632-BDF7-40C4-BFDD-108FEB097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C2ED-4CEA-4511-8CF4-97F62762B1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DF1F-CAEF-4F7B-BCDB-483B0749C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9ED1-F012-43D8-91AF-E329C3267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EBA4-990E-4819-91A2-38C8FF2750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do you think your students would struggle wit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559-5BDE-4B30-A35F-3E290D8A7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curriculum connec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lour code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“tips for secondary teachers” list with related ins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2376-E095-44FD-8901-A7AACA90C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656-EF38-4D82-949B-FE7647C659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4DAE-BCC4-40E9-B3EE-F3E1E09872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0,    x,    2x,    x/3,    x+1,    (x+1)/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744-8D01-4CA7-B0B3-CB79AA6640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9T22:54:13Z</dcterms:modified>
  <cp:revision>54</cp:revision>
  <dc:subject/>
  <dc:title>&lt;Title&gt;</dc:title>
</cp:coreProperties>
</file>